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7D1A1-1D95-4203-9E88-C1AEF6835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79620-B57B-4B4E-A3EC-41CF98E7E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FA8CB-FE98-451B-B23B-A75B24BC8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7BBF5-5FC7-4A40-A8F9-8CEDCAC70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F7F4BF-EDD5-41A6-86DB-E13D608B5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7A8FB-0979-4B04-AD5C-6ED2200CC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C4C5E-8E47-46B3-BFE3-261193FF5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BDA05-3A93-4358-8B9B-75592937B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5DB4D-0EFE-4118-9C59-883EC475B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92F2F-86DD-41B0-AF32-DFF94CE46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40107-F48F-4AAC-B1F6-1EF28ECBD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92903-0C97-45AC-900B-AD47C0865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EC74B-E114-4B20-AA40-52E17EB8E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4103F-EA14-484A-9E95-40FA4CA4B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B0067-F442-47F2-9943-BCDA51803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08DCF0-91FF-4C4E-8B71-23FE4BC6A1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08AE00-AE1F-4B7E-AE69-5234DDBA8E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66825-490A-41A8-A008-B3B8982E5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BBD09-A28B-402E-956C-94E7C5FFA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7A6A4-E5E9-4795-BF04-D907102EA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8A200-048F-4DFE-9B57-DBDC0642C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8585F-07DE-43A7-8D44-42B92520F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C2805-DB48-4D16-8A12-A57D9AEE2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DD1B2-8261-4D04-BEE5-23DFB1FA7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AF78F-B7E3-494B-8D0A-E5AB528E240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4085-DBCE-4DAD-829B-E4714BD39E0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Rounded MT Bold"/>
              </a:rPr>
              <a:t>COMPUTERS AS MINDTOOLS</a:t>
            </a:r>
            <a:br>
              <a:rPr sz="3600"/>
            </a:br>
            <a:r>
              <a:rPr b="0" lang="en-US" sz="3600" spc="-1" strike="noStrike">
                <a:solidFill>
                  <a:srgbClr val="f7d47d"/>
                </a:solidFill>
                <a:latin typeface="Arial Rounded MT Bold"/>
              </a:rPr>
              <a:t>FOR ENGAGING LEARNERS IN CRITICAL THINKING</a:t>
            </a:r>
            <a:endParaRPr b="0" lang="en-US" sz="3600" spc="-1" strike="noStrike">
              <a:solidFill>
                <a:srgbClr val="f7d47d"/>
              </a:solidFill>
              <a:latin typeface="Arial"/>
            </a:endParaRPr>
          </a:p>
        </p:txBody>
      </p:sp>
      <p:sp>
        <p:nvSpPr>
          <p:cNvPr id="193" name="PlaceHolder 2"/>
          <p:cNvSpPr>
            <a:spLocks noGrp="1"/>
          </p:cNvSpPr>
          <p:nvPr>
            <p:ph type="subTitle"/>
          </p:nvPr>
        </p:nvSpPr>
        <p:spPr>
          <a:xfrm>
            <a:off x="2560320" y="4649760"/>
            <a:ext cx="4691160" cy="99072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b854"/>
                </a:solidFill>
                <a:latin typeface="Arial Rounded MT Bold"/>
              </a:rPr>
              <a:t>Prepared by:</a:t>
            </a:r>
            <a:endParaRPr b="0" lang="en-US" sz="3200" spc="-1" strike="noStrike">
              <a:solidFill>
                <a:srgbClr val="2f1311"/>
              </a:solidFill>
              <a:latin typeface="Arial"/>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b854"/>
                </a:solidFill>
                <a:latin typeface="Arial Rounded MT Bold"/>
              </a:rPr>
              <a:t>Domine, Jonaly D.</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Rounded MT Bold"/>
              </a:rPr>
              <a:t>VIII. Hypermedia</a:t>
            </a:r>
            <a:endParaRPr b="0" lang="en-US" sz="4400" spc="-1" strike="noStrike">
              <a:solidFill>
                <a:srgbClr val="f7d47d"/>
              </a:solidFill>
              <a:latin typeface="Arial"/>
            </a:endParaRPr>
          </a:p>
        </p:txBody>
      </p:sp>
      <p:sp>
        <p:nvSpPr>
          <p:cNvPr id="211"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Rounded MT Bold"/>
              </a:rPr>
              <a:t>Hypermedia consists of information nodes, which are the basic unit of information storage and may consist of a page of  text, a graphic,  a  sound bite, a video clip, or even an entire documen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Rounded MT Bold"/>
              </a:rPr>
              <a:t>IX. Conversation Tools</a:t>
            </a:r>
            <a:endParaRPr b="0" lang="en-US" sz="4400" spc="-1" strike="noStrike">
              <a:solidFill>
                <a:srgbClr val="f7d47d"/>
              </a:solidFill>
              <a:latin typeface="Arial"/>
            </a:endParaRPr>
          </a:p>
        </p:txBody>
      </p:sp>
      <p:sp>
        <p:nvSpPr>
          <p:cNvPr id="213"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Rounded MT Bold"/>
              </a:rPr>
              <a:t>Online telecommunications include live conversations, such as Chats, MOOs,  and MUDs  and  videoconferencing,  and  asynchronous  discussions.  These many forms of telecommunications can be  used  for  supporting  interpersonal  exchanges  among  students,  collecting  information,  and  solving problems  in groups of students  (Jonassen, Peck, &amp; Wilson, 1998). Online communication presumes that students can communicate, that is, that they can meaningfully participate  in conversations.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Rounded MT Bold"/>
              </a:rPr>
              <a:t>XI. Learners as Designers</a:t>
            </a:r>
            <a:endParaRPr b="0" lang="en-US" sz="4400" spc="-1" strike="noStrike">
              <a:solidFill>
                <a:srgbClr val="f7d47d"/>
              </a:solidFill>
              <a:latin typeface="Arial"/>
            </a:endParaRPr>
          </a:p>
        </p:txBody>
      </p:sp>
      <p:sp>
        <p:nvSpPr>
          <p:cNvPr id="215"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Rounded MT Bold"/>
              </a:rPr>
              <a:t>The people who  learn  the most  from designing  instructional materials  are  the  designers,  not  thelearners  for whom  the materials  are  intended. The  process  of  articulating what we  know  in  order  to construct a knowledge base  forces  learners  to  reflect on what  they are studying  in new and meaningful ways. Mindtools often require learners to think harder about the subject matter domain being  studied while  generating  thoughts  that would  be  impossible without  the  tool.   While  they  are thinking  harder,  learners  are  also  thinking more meaningfully  as  they  construct  their  own  realities  by designing their own knowledge bases.</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Rounded MT Bold"/>
              </a:rPr>
              <a:t>XII. Knowledge Construction, Not Reproduction</a:t>
            </a:r>
            <a:endParaRPr b="0" lang="en-US" sz="3600" spc="-1" strike="noStrike">
              <a:solidFill>
                <a:srgbClr val="f7d47d"/>
              </a:solidFill>
              <a:latin typeface="Arial"/>
            </a:endParaRPr>
          </a:p>
        </p:txBody>
      </p:sp>
      <p:sp>
        <p:nvSpPr>
          <p:cNvPr id="217"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8000"/>
          </a:bodyPr>
          <a:p>
            <a:pPr marL="335880" indent="-3358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Rounded MT Bold"/>
              </a:rPr>
              <a:t>How we  construct knowledge depends upon we already know, which depends on the kinds of experiences that we have had, how we have organized those experiences into knowledge structures, and what we believe about what we know. Constructivist  approaches  to  learning  strive  to  create  environments  where  learners  actively participate  in  the  environment  in ways  that  are  intended  to help  them  construct  their  own  knowledge, rather  than having  the  teacher  interpret  the world and  insure  that students understand  the world as  they have  told  them. Mindtools  function  as  formalisms  for  guiding  learners  in  the  organization  and representation of what they know.</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Rounded MT Bold"/>
              </a:rPr>
              <a:t>XIII. Learning with Technology</a:t>
            </a:r>
            <a:endParaRPr b="0" lang="en-US" sz="3600" spc="-1" strike="noStrike">
              <a:solidFill>
                <a:srgbClr val="f7d47d"/>
              </a:solidFill>
              <a:latin typeface="Arial"/>
            </a:endParaRPr>
          </a:p>
        </p:txBody>
      </p:sp>
      <p:sp>
        <p:nvSpPr>
          <p:cNvPr id="219"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Rounded MT Bold"/>
              </a:rPr>
              <a:t>Learning with computers  refers  to  the  learner entering an  intellectual partnership with  the computer.Learning with Mindtools depends "on the mindful engagement of learners in the tasks afforded by  these  tools  and  that  there  is  the possibility  of  qualitatively  upgrading  the  performance  of  the  joint system of  learner plus  technology." In other words, when  students work with  computer  technologies, instead of being  controlled by  them,  they  enhance  the  capabilities  of  the  computer,  and  the  computer enhances their thinking and learning.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Rounded MT Bold"/>
              </a:rPr>
              <a:t>XIV. (Un)intelligent Tools</a:t>
            </a:r>
            <a:endParaRPr b="0" lang="en-US" sz="4400" spc="-1" strike="noStrike">
              <a:solidFill>
                <a:srgbClr val="f7d47d"/>
              </a:solidFill>
              <a:latin typeface="Arial"/>
            </a:endParaRPr>
          </a:p>
        </p:txBody>
      </p:sp>
      <p:sp>
        <p:nvSpPr>
          <p:cNvPr id="221"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Rounded MT Bold"/>
              </a:rPr>
              <a:t>Mindtools are unintelligent tools, relying on the learner to provide the intelligence, not the computer.  This means that planning, decision-making, and self-regulation of learningare the responsibility of the learner, not the computer.  However, computer systems can serve as powerful catalysts for facilitating  these skills assuming  they are used  in ways  that promote reflection, discussion, and problem solving.</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Rounded MT Bold"/>
              </a:rPr>
              <a:t>XV. Distributing Cognitive Processing</a:t>
            </a:r>
            <a:endParaRPr b="0" lang="en-US" sz="3600" spc="-1" strike="noStrike">
              <a:solidFill>
                <a:srgbClr val="f7d47d"/>
              </a:solidFill>
              <a:latin typeface="Arial"/>
            </a:endParaRPr>
          </a:p>
        </p:txBody>
      </p:sp>
      <p:sp>
        <p:nvSpPr>
          <p:cNvPr id="223"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Rounded MT Bold"/>
              </a:rPr>
              <a:t>Computer  tools, unlike most  tools, can  function as  intellectual partners which share  the cognitive burden of carrying out  tasks  (Salomon, 1993).   When  learners use computers as partners,  they off-load some  of  the  unproductive  memorizing  tasks  to  the  computer,  allowing  the  learner  to  think  more productively. Learners  should  be responsible for recognizing and judging patterns of information and then organizing it, while the computer system  should perform calculations,  store, and  retrieve  information.</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Rounded MT Bold"/>
              </a:rPr>
              <a:t>XVI. Cost and Effort Beneficial</a:t>
            </a:r>
            <a:endParaRPr b="0" lang="en-US" sz="3600" spc="-1" strike="noStrike">
              <a:solidFill>
                <a:srgbClr val="f7d47d"/>
              </a:solidFill>
              <a:latin typeface="Arial"/>
            </a:endParaRPr>
          </a:p>
        </p:txBody>
      </p:sp>
      <p:sp>
        <p:nvSpPr>
          <p:cNvPr id="225"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Rounded MT Bold"/>
              </a:rPr>
              <a:t>Mindtools  are  personal  knowledge  construction  tools  that  can  be  applied  to  any  subject matter domain.  For the most part, Mindtools software is readily available and affordable. Mindtools are also reasonably easy to learn.  The level of skill needed to use Mindtools often requires limited study.  Most can be mastered within a couple of hours. Because they can be  used  to  construct  knowledge  in  nearly  any  course,  the  cost  and  learning  effort  are  even  more reasonable.</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d47d"/>
                </a:solidFill>
                <a:latin typeface="Arial Rounded MT Bold"/>
              </a:rPr>
              <a:t>I. Summary</a:t>
            </a:r>
            <a:endParaRPr b="0" lang="en-US" sz="6000" spc="-1" strike="noStrike">
              <a:solidFill>
                <a:srgbClr val="f7d47d"/>
              </a:solidFill>
              <a:latin typeface="Arial"/>
            </a:endParaRPr>
          </a:p>
        </p:txBody>
      </p:sp>
      <p:sp>
        <p:nvSpPr>
          <p:cNvPr id="195"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Rounded MT Bold"/>
              </a:rPr>
              <a:t>Using computers as Mindtools by employing software applications as  knowledge  representation  formalisms  will  facilitate  meaning  making  more  readily  and  more completely than the computer-based instruction now available. This slide show has introduced the concept of Mindtools and provided brief descriptions and some examples.</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d47d"/>
                </a:solidFill>
                <a:latin typeface="Arial Rounded MT Bold"/>
              </a:rPr>
              <a:t>II. Introduction</a:t>
            </a:r>
            <a:endParaRPr b="0" lang="en-US" sz="6000" spc="-1" strike="noStrike">
              <a:solidFill>
                <a:srgbClr val="f7d47d"/>
              </a:solidFill>
              <a:latin typeface="Arial"/>
            </a:endParaRPr>
          </a:p>
        </p:txBody>
      </p:sp>
      <p:sp>
        <p:nvSpPr>
          <p:cNvPr id="197"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Rounded MT Bold"/>
              </a:rPr>
              <a:t>Technologies  should not  support  learning by attempting to instruct the learners, but rather should be used as knowledge construction tools that students learn with, not from .  In this way, learners function as designers, and the computers function as Mindtools for interpreting and organizing their personal knowledge. Mindtools  are  computer  applications  that, when  used  by  learners  to  represent what  they  know, necessarily  engage  them  in  critical  thinking  about  the  content  they  are  studying  (Jonassen,  1996).</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Rounded MT Bold"/>
              </a:rPr>
              <a:t>III. Using Computers as Mindtools</a:t>
            </a:r>
            <a:endParaRPr b="0" lang="en-US" sz="4400" spc="-1" strike="noStrike">
              <a:solidFill>
                <a:srgbClr val="f7d47d"/>
              </a:solidFill>
              <a:latin typeface="Arial"/>
            </a:endParaRPr>
          </a:p>
        </p:txBody>
      </p:sp>
      <p:sp>
        <p:nvSpPr>
          <p:cNvPr id="199"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Rounded MT Bold"/>
              </a:rPr>
              <a:t>There  are  several  classes  of Mindtools,  including  semantic organization  tools, dynamic modeling  tools,  information  interpretation  tools,  knowledge  construction tools,  and  conversation  and  collaboration  tools  (Jonassen,  in  press).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Rounded MT Bold"/>
              </a:rPr>
              <a:t>IV. Semantic Organization Tools</a:t>
            </a:r>
            <a:endParaRPr b="0" lang="en-US" sz="4400" spc="-1" strike="noStrike">
              <a:solidFill>
                <a:srgbClr val="f7d47d"/>
              </a:solidFill>
              <a:latin typeface="Arial"/>
            </a:endParaRPr>
          </a:p>
        </p:txBody>
      </p:sp>
      <p:sp>
        <p:nvSpPr>
          <p:cNvPr id="201"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Rounded MT Bold"/>
              </a:rPr>
              <a:t>Semantic organization tools help learners to analyze and organize what they know or what they are learning.</a:t>
            </a:r>
            <a:endParaRPr b="0" lang="en-US" sz="2000" spc="-1" strike="noStrike">
              <a:solidFill>
                <a:srgbClr val="2f131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Arial"/>
              </a:rPr>
              <a:t>a.Databases.</a:t>
            </a:r>
            <a:r>
              <a:rPr b="0" lang="en-US" sz="2000" spc="-1" strike="noStrike">
                <a:solidFill>
                  <a:srgbClr val="2f1311"/>
                </a:solidFill>
                <a:latin typeface="Arial"/>
              </a:rPr>
              <a:t>  Databases can be used as  tools for analyzing and organizing subject matter  (i.e. Mindtools). A large number of critical thinking skills are required to use and construct knowledge-oriented databases.</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Arial"/>
              </a:rPr>
              <a:t>b. Semantic Networking.</a:t>
            </a:r>
            <a:r>
              <a:rPr b="0" lang="en-US" sz="2000" spc="-1" strike="noStrike">
                <a:solidFill>
                  <a:srgbClr val="2f1311"/>
                </a:solidFill>
                <a:latin typeface="Arial"/>
              </a:rPr>
              <a:t> Semantic  networking  programs  are  computer-based,  visualizing  tools  for  developing representations  of  semantic  networks  in  memory. The  purpose  of  semantic  networks  is  to  represent  the  structure  of  knowledge  that  someone  has constructed.    So,  creating  semantic  networks  requires  learners  to  analyze  the  structural  relationships among the content they are studying.</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Rounded MT Bold"/>
              </a:rPr>
              <a:t>V. Dynamic Modeling Tools</a:t>
            </a:r>
            <a:endParaRPr b="0" lang="en-US" sz="4400" spc="-1" strike="noStrike">
              <a:solidFill>
                <a:srgbClr val="f7d47d"/>
              </a:solidFill>
              <a:latin typeface="Arial"/>
            </a:endParaRPr>
          </a:p>
        </p:txBody>
      </p:sp>
      <p:sp>
        <p:nvSpPr>
          <p:cNvPr id="203"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Rounded MT Bold"/>
              </a:rPr>
              <a:t>Dynamic modeling  tools  help  learners  to  describe  the  dynamic  relationships  among  ideas. </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Arial"/>
              </a:rPr>
              <a:t>a. Spreadsheets.</a:t>
            </a:r>
            <a:r>
              <a:rPr b="0" lang="en-US" sz="2000" spc="-1" strike="noStrike">
                <a:solidFill>
                  <a:srgbClr val="2f1311"/>
                </a:solidFill>
                <a:latin typeface="Arial"/>
              </a:rPr>
              <a:t>    Spreadsheets  are  computerized,  numerical  record  keeping systems  that were  designed originally to replace paper-based, ledger accounting systems. Spreadsheets were originally developed and are most commonly used to support business decision making  and  accounting operations. Spreadsheets are also commonly used  for personal accounting and budgeting. Spreadsheets also may be used as Mindtools for amplifying mental functioning. </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Arial"/>
              </a:rPr>
              <a:t>b. Expert Systems.</a:t>
            </a:r>
            <a:r>
              <a:rPr b="0" lang="en-US" sz="2000" spc="-1" strike="noStrike">
                <a:solidFill>
                  <a:srgbClr val="2f1311"/>
                </a:solidFill>
                <a:latin typeface="Arial"/>
              </a:rPr>
              <a:t>  An expert  system  is a computer program  that  simulates  the way human  experts solve problems,  tha  is,  an artificial  decision maker.  They  are computer-based  tools  that  are  designed  to  function  as  intelligent decision supports.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
          <p:cNvSpPr txBox="1"/>
          <p:nvPr/>
        </p:nvSpPr>
        <p:spPr>
          <a:xfrm rot="10800000">
            <a:off x="765000" y="231840"/>
            <a:ext cx="7917480" cy="69120"/>
          </a:xfrm>
          <a:prstGeom prst="rect">
            <a:avLst/>
          </a:prstGeom>
          <a:noFill/>
          <a:ln w="0">
            <a:noFill/>
          </a:ln>
        </p:spPr>
        <p:txBody>
          <a:bodyPr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5" name="PlaceHolder 1"/>
          <p:cNvSpPr>
            <a:spLocks noGrp="1"/>
          </p:cNvSpPr>
          <p:nvPr>
            <p:ph/>
          </p:nvPr>
        </p:nvSpPr>
        <p:spPr>
          <a:xfrm>
            <a:off x="304920" y="304920"/>
            <a:ext cx="7386480" cy="4497120"/>
          </a:xfrm>
          <a:prstGeom prst="rect">
            <a:avLst/>
          </a:prstGeom>
          <a:noFill/>
          <a:ln w="0">
            <a:noFill/>
          </a:ln>
        </p:spPr>
        <p:txBody>
          <a:bodyPr lIns="90000" rIns="90000" tIns="46800" bIns="46800" anchor="t">
            <a:normAutofit fontScale="98000"/>
          </a:bodyPr>
          <a:p>
            <a:pPr marL="335880" indent="-3358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Arial"/>
              </a:rPr>
              <a:t>c. Systems Modeling  Tools. </a:t>
            </a:r>
            <a:r>
              <a:rPr b="0" lang="en-US" sz="2000" spc="-1" strike="noStrike">
                <a:solidFill>
                  <a:srgbClr val="2f1311"/>
                </a:solidFill>
                <a:latin typeface="Arial"/>
              </a:rPr>
              <a:t>Complex  learning  requires  that students develop complex mental representations  of  the  phenomena  they  are  studying. A  number  of  tools  for  developing  these mental representations are emerging. Stella, for instance, is a powerful and flexible tool for building simulations of dynamic systems and processes (systems with interactive and interdependent components).  Stella uses a simple set of building block icons to construct a map of a process. </a:t>
            </a:r>
            <a:endParaRPr b="0" lang="en-US" sz="2000" spc="-1" strike="noStrike">
              <a:solidFill>
                <a:srgbClr val="2f1311"/>
              </a:solidFill>
              <a:latin typeface="Arial"/>
            </a:endParaRPr>
          </a:p>
          <a:p>
            <a:pPr marL="335880" indent="-3358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Arial"/>
              </a:rPr>
              <a:t>d. Microworlds</a:t>
            </a:r>
            <a:r>
              <a:rPr b="0" lang="en-US" sz="2000" spc="-1" strike="noStrike">
                <a:solidFill>
                  <a:srgbClr val="2f1311"/>
                </a:solidFill>
                <a:latin typeface="Arial"/>
              </a:rPr>
              <a:t>.  Microworlds  are  exploratory  learning  environments  or  discovery  spaces  in  which learners can navigate, manipulate or create objects, and  test  their effects on one another.   Microworlds contain constrained simulations of real-world phenomena that allow learners to control those phenomena.They provide the exploratory functionality (provide learners with the observation and manipulation tools and  testing objects) needed  to  explore phenomena  in  those parts of  the world.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Rounded MT Bold"/>
              </a:rPr>
              <a:t>VI. Information Interpretation Tools</a:t>
            </a:r>
            <a:endParaRPr b="0" lang="en-US" sz="4000" spc="-1" strike="noStrike">
              <a:solidFill>
                <a:srgbClr val="f7d47d"/>
              </a:solidFill>
              <a:latin typeface="Arial"/>
            </a:endParaRPr>
          </a:p>
        </p:txBody>
      </p:sp>
      <p:sp>
        <p:nvSpPr>
          <p:cNvPr id="207"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Rounded MT Bold"/>
              </a:rPr>
              <a:t>The volume and complexity of information are growing at an astounding rate.  Learners need tools that help  them  to  access  and  process  that  information.   A  new  class  of  intelligent  information  search engines are scanning information resources, like the World Wide Web, and locating relevant resources for learners.</a:t>
            </a:r>
            <a:endParaRPr b="0" lang="en-US" sz="1800" spc="-1" strike="noStrike">
              <a:solidFill>
                <a:srgbClr val="2f131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Arial"/>
              </a:rPr>
              <a:t>a. Visualization Tools. </a:t>
            </a:r>
            <a:r>
              <a:rPr b="0" lang="en-US" sz="2000" spc="-1" strike="noStrike">
                <a:solidFill>
                  <a:srgbClr val="2f1311"/>
                </a:solidFill>
                <a:latin typeface="Arial"/>
              </a:rPr>
              <a:t>Visualization tools help humans  to  represent and convey  those mental  images, usually not  in  the  same  form  they are generated mentally, but as rough approximations of those mental images.These visualization  tools make  the abstract  real  for  students, helping  them  to understand  chemical  concepts  that  are difficult  to convey in static displays.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Rounded MT Bold"/>
              </a:rPr>
              <a:t>VII. Knowledge Construction Tools</a:t>
            </a:r>
            <a:endParaRPr b="0" lang="en-US" sz="4000" spc="-1" strike="noStrike">
              <a:solidFill>
                <a:srgbClr val="f7d47d"/>
              </a:solidFill>
              <a:latin typeface="Arial"/>
            </a:endParaRPr>
          </a:p>
        </p:txBody>
      </p:sp>
      <p:sp>
        <p:nvSpPr>
          <p:cNvPr id="209"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Rounded MT Bold"/>
              </a:rPr>
              <a:t>Paper has used  the  term  "constructionism"  to  describe  the  process  of  knowledge construction resulting from constructing things.  When learners function as designers of objects, they learn more about those objects than they would from studying about them.</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5T01:54:47Z</dcterms:created>
  <dc:creator>pc01</dc:creator>
  <dc:description/>
  <dc:language>en-US</dc:language>
  <cp:lastModifiedBy>pc01</cp:lastModifiedBy>
  <dcterms:modified xsi:type="dcterms:W3CDTF">2010-08-15T03:29:36Z</dcterms:modified>
  <cp:revision>2</cp:revision>
  <dc:subject/>
  <dc:title>COMPUTERS AS MINDTOOLS FOR ENGAGING LEARNERS IN CRITICAL THINKING</dc:title>
</cp:coreProperties>
</file>